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ct" ContentType="image/x-pict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7EA-715E-4DAC-A270-7813DFB6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rd grade feature artic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rd grade feature artic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th gr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215-6602-41FF-A31A-2C29752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9CB-FD26-4A25-AE0B-FF7FC8C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3C2-9E24-4AB4-9CC0-52FC8B98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325-DE1B-428A-A648-7F12722D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862-9011-45D2-B07C-977330D0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97D1-37A1-45FB-8E63-9F52991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3FD8-3DB1-4570-B8CF-ABCDFCA1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DFB5-6A8A-40BE-8E83-A7E3899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BC8B-61A8-440D-AB76-8E94EAD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40D-25E0-424C-84DB-CF0B73B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9D38-7B78-425E-8D9C-408F436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F53-0751-4628-9CF0-E67AC9F5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AF35-8C3C-498B-A9D6-FD521124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0C9-6298-4BFD-8A36-C103705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718-7AAF-4C35-BA07-6FAA0790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1E1-0D94-4B61-8BE2-56200630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DBA-D6BC-40BE-AD0A-60DBF79F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F27-F716-4ACB-A93D-CAA7D243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0D6-80B5-4A79-867B-CBCFE94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AA8-238C-4321-8EDC-AF0F833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E88-52C9-4145-B05D-ED238E90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8E7-1429-442C-803D-F4D8EBD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0D3-B473-45FA-8DCB-6E80E0D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BC8-2279-49DE-8FFB-B65A72B8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6DDA-9790-4AEA-9237-AE7A086ACE8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A38-254E-48CD-846F-DC128F0A932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428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The Writing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F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230560"/>
            <a:ext cx="8381880" cy="4627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152280"/>
            <a:ext cx="66294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Does this articl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Sound like the author is talking to the rea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ntertain: seem funn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Cause a rea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xplain someth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As you read through your feature articles, look for a good example of a conversational or entertaining writing style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9568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I will ask you to share your examples with the clas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Palatino"/>
              </a:rPr>
              <a:t>We know about the physical characteristics of feature articles!</a:t>
            </a: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subheadings/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ca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title (word p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other graph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eef021"/>
                </a:solidFill>
                <a:latin typeface="Palatino"/>
              </a:rPr>
              <a:t>(charts, maps, lists, graphs, timeline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Palatino"/>
              </a:rPr>
              <a:t>Let’s read this article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Palatino"/>
              </a:rPr>
              <a:t>continu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655344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021"/>
                </a:solidFill>
                <a:latin typeface="Palatino"/>
              </a:rPr>
              <a:t>What did you think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0481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Did you get information (facts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Did you notice other writing strategies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          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we have learned (lead, conclusion, 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‘show not tell’, etc.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  <a:ea typeface="ＭＳ Ｐゴシック"/>
              </a:rPr>
              <a:t>What about the way it was writte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752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Let’s think about this article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Palatino"/>
              </a:rPr>
              <a:t>What did you notic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Palatino"/>
              </a:rPr>
              <a:t>Feature Article Writers Use A </a:t>
            </a:r>
            <a:br>
              <a:rPr sz="3200"/>
            </a:br>
            <a:r>
              <a:rPr b="0" lang="en-US" sz="3200" spc="-1" strike="noStrike">
                <a:solidFill>
                  <a:srgbClr val="ff8000"/>
                </a:solidFill>
                <a:latin typeface="Palatino"/>
              </a:rPr>
              <a:t>Conversational, Entertaining Writing Style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catch and keep the readers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entertain  (often fun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cause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To explain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Sometimes sounds like the author is selling something (like a commer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CAUSES A REACTION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657600"/>
            <a:ext cx="4952880" cy="2286000"/>
            <a:chOff x="990720" y="3657600"/>
            <a:chExt cx="4952880" cy="2286000"/>
          </a:xfrm>
        </p:grpSpPr>
        <p:sp>
          <p:nvSpPr>
            <p:cNvPr id="105" name=""/>
            <p:cNvSpPr/>
            <p:nvPr/>
          </p:nvSpPr>
          <p:spPr>
            <a:xfrm>
              <a:off x="990720" y="4114800"/>
              <a:ext cx="4952880" cy="1828800"/>
            </a:xfrm>
            <a:prstGeom prst="cloudCallout">
              <a:avLst>
                <a:gd name="adj1" fmla="val -36953"/>
                <a:gd name="adj2" fmla="val 53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4240" y="3657600"/>
              <a:ext cx="37335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f021"/>
                  </a:solidFill>
                  <a:latin typeface="Palatino"/>
                </a:rPr>
                <a:t>Think and questi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Palatino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Palatino"/>
                  <a:ea typeface="ＭＳ Ｐゴシック"/>
                </a:rPr>
                <a:t>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Palatino"/>
                  <a:ea typeface="ＭＳ Ｐゴシック"/>
                </a:rPr>
                <a:t>I never thought of that?, Why does that happen? That does not seem righ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43000" y="1752480"/>
            <a:ext cx="5714640" cy="1752480"/>
            <a:chOff x="1143000" y="1752480"/>
            <a:chExt cx="5714640" cy="1752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372920" y="1752480"/>
              <a:ext cx="248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43000" y="1752480"/>
              <a:ext cx="322992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021"/>
                  </a:solidFill>
                  <a:latin typeface="Palatino"/>
                </a:rPr>
                <a:t>Makes the reader feel something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f021"/>
                  </a:solidFill>
                  <a:latin typeface="Palatino"/>
                  <a:ea typeface="ＭＳ Ｐゴシック"/>
                </a:rPr>
                <a:t>…</a:t>
              </a:r>
              <a:r>
                <a:rPr b="0" lang="en-US" sz="2400" spc="-1" strike="noStrike">
                  <a:solidFill>
                    <a:srgbClr val="eef021"/>
                  </a:solidFill>
                  <a:latin typeface="Palatino"/>
                  <a:ea typeface="ＭＳ Ｐゴシック"/>
                </a:rPr>
                <a:t>sad, happy, etc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Feature Article Writers </a:t>
            </a:r>
            <a:br>
              <a:rPr sz="4000"/>
            </a:b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Want To Explain Thing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eef021"/>
                </a:solidFill>
                <a:latin typeface="Palatino"/>
              </a:rPr>
              <a:t>Readers like to have facts explained, so feature writers give us facts and explain why they are important.  This adds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61040" y="1981080"/>
            <a:ext cx="258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Look for the characteristics of conversational writing styl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Does this artic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Sound like the author is talking to the r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ntertain: seem fun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Cause a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eef021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021"/>
                </a:solidFill>
                <a:latin typeface="Palatino"/>
              </a:rPr>
              <a:t>Explain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81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4:38:51Z</dcterms:created>
  <dc:creator>AAPS</dc:creator>
  <dc:description/>
  <dc:language>en-US</dc:language>
  <cp:lastModifiedBy>AAPS</cp:lastModifiedBy>
  <cp:lastPrinted>2005-10-17T16:59:09Z</cp:lastPrinted>
  <dcterms:modified xsi:type="dcterms:W3CDTF">2005-10-20T01:36:33Z</dcterms:modified>
  <cp:revision>19</cp:revision>
  <dc:subject/>
  <dc:title>FEATURE ARTICLES</dc:title>
</cp:coreProperties>
</file>